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84D-847A-4666-A4E2-934ED388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7AE-684C-4859-A5A7-1FF2E431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5AC-CBD9-45A0-B9D3-A86BE553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6D2-8431-4573-94C6-3C0053A4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9B7A-77AB-4A55-B2C2-84CF2E33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FCD3-2B55-45D3-A3D9-FFA16598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46EA-4C3D-49DA-8C6E-9A698DE2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7A27-D58D-4B29-A1F4-7F0BC4D6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8930-CE0D-4881-9E32-68CC71D4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FF38-C07A-42D0-A4F9-66DFAAC6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89D1-D722-494F-83AE-CC0AC827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DE7-4E7C-4FF3-A297-EB3FD59F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B4B6-90BA-418B-97D2-D20D36C7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F8CB-C9E8-415D-86F8-4F82D071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F729-EE69-469C-BEBC-916D41B9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D687-FA31-4DE3-8A49-5EA6397D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88EB-438E-49DD-9016-AF3D3912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BB2-1E63-4363-BB88-F84C872C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880-D234-487E-B82C-B1F4C654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733-3629-4982-909F-BCFB1DF5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93C-A2AB-4094-97DD-4282B328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205-275B-4AF3-8645-5E15FD3C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480-272A-451F-84E1-E82DC861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75E-3B19-41C0-BA61-D14647FF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7570-488B-4458-B7B7-E78F2E6D19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E73A-8C01-4DE2-8A09-7E58BC1899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rst Wav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_x0010_It’s is possible that nations such as Kirkbati _x0010_may have already reached a tipping point because of the long delay involved in  reducing greenhouse gas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-- Andr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8:37:08Z</dcterms:created>
  <dc:creator>PA Department of Education</dc:creator>
  <dc:description/>
  <dc:language>en-US</dc:language>
  <cp:lastModifiedBy>PA Department of Education</cp:lastModifiedBy>
  <dcterms:modified xsi:type="dcterms:W3CDTF">2009-05-27T18:31:44Z</dcterms:modified>
  <cp:revision>3</cp:revision>
  <dc:subject/>
  <dc:title>Something  </dc:title>
</cp:coreProperties>
</file>